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46EC-82FB-4F49-98C6-C42C026BE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E42B-1CA4-44F7-A10D-7423CF1F4A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B6CD-84D2-4B70-905E-A94961DECD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056C-5894-49E3-BE37-BE9617A2E1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ADC6-176B-4CE9-9D06-029399E6B3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876C-E669-4E08-858B-C371ABF752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72C7-FE0D-45E1-9B8C-0B4CAAE853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DCF5-78A9-45F2-A589-FA841CD8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AFFC-CEAC-4576-B40D-D2E15722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D529-5C3B-48E3-A472-CBFD37B24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C01E-75F4-4D3A-BE05-4A9D419E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B04D-656D-4885-AC58-A6545F492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A5BE-264E-4EED-B49D-8C035AD1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03F9-6786-4D55-A81B-CDBD6D74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B33C-930D-49CC-88AD-E1D29297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CF1E-A1BC-416D-853E-A49231C7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A971-4CEE-45E6-8230-985CF47F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5500-AA1E-412C-980B-B78CD383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042C-46A8-48DF-8EAD-40EF661F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38B7-7EB6-4415-964B-E3280ECD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52CD-7CBA-40E9-91AA-7CBECE83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5BAD-7C49-4BFD-9BAC-7E0F28F1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849C-31C8-485D-A7D5-D9F5CA0E9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C493-6E72-449D-B58B-F5E6B6E7C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DD0B-5AF2-4D66-AA63-78DDB40F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B1ED-D00E-4596-8CD4-C017EAB0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C30F-727D-4C59-86C0-A3ED13E0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FB43-8C36-4566-B74C-03D128A9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3720-CA99-4940-8C0B-2B828BE7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F4E0-0FF1-4957-96F2-B1CD114E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4B0B-BB13-45C0-BEE9-F53B156C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C4C5-4F37-433A-9437-8BF93070A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BE14-66B6-4B63-80C2-FAD7D095F5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egin the Begin…..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-LEGISLATIVE BRANCH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 to check your knowle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answers ON A SEPARATE PIECE OF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How many members are in the House of Representative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2629080" y="274320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185760"/>
            <a:ext cx="9144000" cy="21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What is the term for a member of the House of Representative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3"/>
          <a:stretch/>
        </p:blipFill>
        <p:spPr>
          <a:xfrm>
            <a:off x="1828800" y="2805120"/>
            <a:ext cx="4859280" cy="32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573732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What District is Oak Ridge in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2"/>
          <a:stretch/>
        </p:blipFill>
        <p:spPr>
          <a:xfrm>
            <a:off x="0" y="3002040"/>
            <a:ext cx="9198000" cy="23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185760"/>
            <a:ext cx="9144000" cy="21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Who is YOUR representative in the House of Representative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3013200" y="1981080"/>
            <a:ext cx="3117600" cy="469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44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What is the job of the Party WHIP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3"/>
          <a:stretch/>
        </p:blipFill>
        <p:spPr>
          <a:xfrm>
            <a:off x="2209680" y="1905120"/>
            <a:ext cx="4195800" cy="419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95400"/>
            <a:ext cx="9144000" cy="28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BONUS: What position is next in line for the Presidency AFTER the speaker of the Hous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2819520" y="3084480"/>
            <a:ext cx="3314520" cy="377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1-09-26T16:43:44Z</dcterms:modified>
  <cp:revision>128</cp:revision>
  <dc:subject/>
  <dc:title>D/O: TO EXPLAIN AND IDENTIFY PROBLEMS OF ECONOMICS</dc:title>
</cp:coreProperties>
</file>